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87AA-41A7-4B25-B5F7-F632938F4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allon jugs of water, sealed, book at each copy stand, jobs that use keyboar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 in hall, introduce 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t in hall, cooperation, sel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 behind computer, no tou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 Keyboard, mouse, copy stand, chair.  Practice copy stand then s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ne is a natural S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pine is not in alignment it pushed into nerves and causes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it the spine changes shape unless there is lumbar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line through the body with half the weight in the front and half in the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 and feel natural curve of spine with their han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nd try to maintain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have to lean slightly forward to stretch up from the hip to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re muscles, practice to build core str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should not be tilted forward or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ing position for eyes is 15 degrees below horiz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balances on vertebra.  After 15 degrees weight of head transfers from skeletal system to 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it is lifted or lowered the more strain on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:  Pass around gallon of water to demonstrate weight of head. (Use two to go fas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tudents place fingers on muscles at the back of neck.  Feel muscle tension increase and decrease moving head up an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surface a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ers and upper arms do the work not the wr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ot in or back a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hild holds a book in his or her hand with upper arms perpendicular to the fl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hold the book all the way out in front at arms length and feel that the book is heav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book halfway in and feel that it is lighter as it gets c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ame thing with one arm while the other arm feels for muscle 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ts get heavier as they move away from the trunk keep them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e muscles hurt - correct distance from the keyboard so they can hang stra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tudents put one hand on the other upper arm and raise the elbow of the arm being held to feel the muscles ten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ame thing holding the shou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and blood vessels in the wrist can be pinched by angling them in or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sts are more vulnerable than shoulders so they should be highest pri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tudents hold hands out in front of them, palm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hands outwards and inwards while keeping wrists still.  Notice the tension in the fore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wrists straight to avoid strain when using keyboard.  When wrists arch or dip the bending can compress nerves and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keyboard at the edge of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rest wrists on any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tudents hold hands out in front of them, palm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hands up and down while keeping wrists still.  Notice the tension in the tendons and muscles of the fore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r feet are not supporting any of your body weight you must tense your back muscles to keep from falling off the chai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stool under feet if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eet don’t touch the floor and take weight off the legs blood vessels and nerves in the back of the legs are 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o work harder to pump blood back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:  Get s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just chairs and screen if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A37-BECF-4CA4-8CB7-17C40E1F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50E-7549-4DDA-AC23-47C9DF60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4BE-072B-4858-A24B-CEE9768F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DFC-9EF8-4F57-A85E-51A9AC10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6424-6210-455C-B52E-80BD61B3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C7AD-9872-4B45-A859-338D8C6C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DE39-30F2-47F2-95D4-3767419C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F050-1F2D-494F-BBBA-44675ED0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F136-824E-4236-B078-3845AA45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332A-4A02-471B-964D-6A255773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1B8E-66F1-45F1-95B1-2A00AA58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739-633B-499F-B410-641F2D29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08E4-5D8D-4152-B98A-32A6028F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2586-FB69-49E6-947A-D007ADBB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4598-EAA5-4146-8362-4F56D074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989C-5712-466E-8B39-B1275F17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DD56-83EB-46C3-BAF7-2C08AEAC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5B0-6C40-4AC5-A431-A3C9B8DB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859-6142-43BF-9CAE-8A0A4595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1EE-C4C7-4772-BC1C-39A8B20D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146-CF89-48BF-B8D6-4C9C4AC6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D02-4E8A-4C0F-AFBB-2D196173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272-BA22-427C-AEEC-A62F6AD2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230-57C7-45AA-B2CE-0B045CD0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C04F-57D2-4CD1-BD53-10C61E2E22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3714-83B1-4501-9939-73E80A2B02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boarding Pos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438280"/>
            <a:ext cx="7086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sson from Sitting Pretty:  Safe Posture for Keyboarding and Other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’s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correct po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to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to Ultra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Sit u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95640" y="1662120"/>
            <a:ext cx="29527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ging 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full school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ris Brown might be Christopher Brow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tra spaces in between names or afte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 is your birthday, two numbers for month, two for day of the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il 1st birthday is 040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934320" cy="5903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6520" y="-36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in Scre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37339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990720"/>
            <a:ext cx="37339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51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ood luck and good postur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uter lab remind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ouching scr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no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pysta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keyboarding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 of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good ha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form not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sture = less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build core muscle strength for good pos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makes it easi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arning is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Head Up Stra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341964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H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19104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Elbo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76480" y="1986120"/>
            <a:ext cx="319104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Wrists straight side to s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71720" y="1986120"/>
            <a:ext cx="340056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Wrists straight up and dow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28960" y="1428840"/>
            <a:ext cx="32860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Feet flat and knees squ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95640" y="1495440"/>
            <a:ext cx="2952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5:59:23Z</dcterms:created>
  <dc:creator>Roseville Schools</dc:creator>
  <dc:description/>
  <dc:language>en-US</dc:language>
  <cp:lastModifiedBy>Roseville Schools</cp:lastModifiedBy>
  <dcterms:modified xsi:type="dcterms:W3CDTF">2009-09-10T18:06:36Z</dcterms:modified>
  <cp:revision>31</cp:revision>
  <dc:subject/>
  <dc:title>Keyboarding Posture</dc:title>
</cp:coreProperties>
</file>